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868F-969B-4985-BBFC-3C4B1D717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789E4-DD10-48DD-931F-0994DA54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645DA-54E2-4B42-B4D7-5D83EE85F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837B3-7735-4C7C-9345-47672136A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CD5BE-F6DB-41CE-9261-B51F68A4E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8E8E7-2AD7-4E48-9531-3D1336849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255DA-E9EF-4612-B7D7-A7795E4D0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C7B89-FA23-4D6A-BB4F-BD58352F3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A7185-E112-443F-9901-77AA531E8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C5EF7-5C7C-4EF6-BA16-7C6B73780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43E4-CBBC-43DC-BF5D-8C3ECE8A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F1512-46EE-486C-8F25-A7CAE0491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97ED3-7C06-4108-A4D9-BF4839B16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DD292-0BC5-40B0-BB32-9C3EB47D8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97724-4361-4C43-83EF-A3D310011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0E089-6AC1-4384-99E8-BA5FA6715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FA451-416C-4B59-8365-50F60A0ED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B40A955-7FBC-4CDA-90A5-09BD8EB13ED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DFC960F-FC18-440D-BB07-DCB47B191B5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D05FB535-5889-416A-B5C4-CAEBB1918AB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CAD50B0-50E3-4528-8492-96B6DA82303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2219C0E-B258-4BC5-BC5F-09D0B0BEF9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84D5-F910-4B4C-896D-8FBD9DBE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61A4A536-214D-4624-8CDA-898176B5470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F176677-C68B-4522-9F0C-B65469502D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F18D6A4-3EE4-4871-81B7-9F8E297EB82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4A3A44F-374D-4166-B5EB-749A4F1FEB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72FAB7E-7764-4EB7-8111-1973B4C1BC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8CD8792-361A-4C05-BED1-684F5F17C9E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AB6C575D-5B45-4DA0-9265-739DCEE3F13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41B42E-C958-4D57-AA4D-9F60B5F13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1D460-F39A-495B-B7E6-F5538A2B5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F1493-5FD9-4990-A58D-1AF872F45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4C23F-C848-48E8-B98D-4B1261E9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584D4-6F95-42F5-9FDA-4E9DD076A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6F423-2E7C-47DA-AB86-27D4283E9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850FD-A437-4DFA-A501-575429A9A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E23BA-8536-452B-80E5-2DB77C59B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D2E30-547C-4DAA-B0C2-525E6B2CF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52304-A661-4652-ADD2-9892444FE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08254-2627-42B8-9CE9-6D601F965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C057C-129E-4EC5-A330-D623CFBBF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4118C2-1007-463B-B719-68CB0537FE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D0DBE-F4DD-4F7A-94AE-2E5B87832C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63690-3E27-4D18-AD45-AE247353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80EC8-5AB8-473D-83CF-EB4A980CF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15E3B9-4D8E-4BC2-8EF1-CD362D21B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C1D5B-D1BA-48E0-B345-429B9D514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1B044-91D9-4080-A0AB-BCA1F77A5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5FEA8-E003-4303-97FF-2933429C5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163C3-B183-48F2-954D-43B0D02A9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866AD-C9FB-4B4C-B782-74B7008B9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91D26-87AC-42C1-9B9A-73BD51242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5CCF2-570E-43C8-9658-3F98B0521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19477-793C-4770-85B8-271F08459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F51B7-146C-4EA8-BEFD-A6D0355F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3F980B-2E6C-41F2-AD60-A8797AB6C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1DD20-450F-4157-9564-8800FC8108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D6C33-E88B-4A05-8527-96B1ED5CD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799541-DFF6-4840-B3DE-6AF4F7B1A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572222-3174-4871-9F6F-97EEE9900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6CE2F-03A1-490A-831D-D0C4D74A3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24CBB-AB2F-49FF-A756-588B0F475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1373B-B018-4C18-802A-6160825CC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67E46-1CC3-4860-A1FB-9C402F687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C432D-E4F6-4D8E-9F7F-E6D6BD48C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5AB8-72BD-4056-9811-C9804153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849E1-50F3-4EA8-992C-F6E48CCC60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750747-E055-4349-829F-52FED29D7D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D6401E-891C-432A-971E-8E2A68B7B4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EB1D42E-3A7D-4164-BBCE-81EE52903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E54868-38A9-4D48-889C-4F9526E01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27AF61-ADF1-4BF4-A37F-AC24222133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0A2EDE-8515-4C80-A27C-FCBC46CC8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1A3490-1AB5-4475-B866-6DDEC20F09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793C10-629E-408D-94B6-F8787C684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A0F8D8-1242-4D30-AB6F-0130596A1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75DE-36C7-465F-ACD9-CE1271D0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67B439-2E2E-4FDD-B82D-4139B4F22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209163-4E39-4EC2-B349-EF76D8C5A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FAFF84-021A-4702-8F29-C4AA7FF62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2013FAD-3ECD-4BB3-8BB4-24099EA5E1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CDCE760-20E5-432A-8419-E0055A9676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7084A-92D4-41AF-A6E0-871D6C616D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65F23-348E-40CE-9EE8-25710DF05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293268-AC39-4577-97A7-E598F9F237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4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E1289-47DC-4980-B637-4ADEB5C38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C88AD9-2A54-4164-9ADF-AF04778F72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3B63-72F1-40E6-B193-2B1E874C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078B3-13F0-4EC9-9370-7DE0480EB4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625CB-28C7-45C7-AE3E-1F9D7BA38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27E4C-D459-4FB8-8C02-15E167F4B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D83B0-C582-4EE7-A93D-056113B94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F9258-56CF-4959-B441-BA88192065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82F30A-9B29-40F4-A72A-85BC3146F2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1FCB5B-545B-4674-808A-4DE4F34B91E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3038-17FE-429B-87DF-B5F8B249B9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3A19-D942-4E11-9E23-16379E1426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12" name=""/>
          <p:cNvGrpSpPr/>
          <p:nvPr/>
        </p:nvGrpSpPr>
        <p:grpSpPr>
          <a:xfrm>
            <a:off x="-103320" y="1308240"/>
            <a:ext cx="9350640" cy="5632560"/>
            <a:chOff x="-103320" y="1308240"/>
            <a:chExt cx="9350640" cy="5632560"/>
          </a:xfrm>
        </p:grpSpPr>
        <p:sp>
          <p:nvSpPr>
            <p:cNvPr id="21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5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5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25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5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26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6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26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eaeaea"/>
                </a:solidFill>
                <a:latin typeface="Arial"/>
              </a:endParaRPr>
            </a:p>
          </p:txBody>
        </p:sp>
        <p:sp>
          <p:nvSpPr>
            <p:cNvPr id="27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7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8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8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28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28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8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8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28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8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8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9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0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0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0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0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0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31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31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1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1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1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2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3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3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3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3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3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3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3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4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4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4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6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6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7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7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7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8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8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8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8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9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9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39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0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40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40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40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1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2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42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8"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6EE8-B7F6-4BD8-A611-76BF0E83C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469" name=""/>
          <p:cNvGrpSpPr/>
          <p:nvPr/>
        </p:nvGrpSpPr>
        <p:grpSpPr>
          <a:xfrm>
            <a:off x="-105120" y="1311120"/>
            <a:ext cx="9350640" cy="5632560"/>
            <a:chOff x="-105120" y="1311120"/>
            <a:chExt cx="9350640" cy="5632560"/>
          </a:xfrm>
        </p:grpSpPr>
        <p:sp>
          <p:nvSpPr>
            <p:cNvPr id="47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1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51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51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2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52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eaeaea"/>
                </a:solidFill>
                <a:latin typeface="Arial"/>
              </a:endParaRPr>
            </a:p>
          </p:txBody>
        </p:sp>
        <p:sp>
          <p:nvSpPr>
            <p:cNvPr id="53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3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54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4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4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4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4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4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4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6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6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6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57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7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7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7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8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8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9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59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59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0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1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1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2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2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3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3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63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65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5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5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5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6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66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6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6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7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7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7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7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8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8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1E85-6073-4200-A384-475A52CF8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25" name=""/>
          <p:cNvGrpSpPr/>
          <p:nvPr/>
        </p:nvGrpSpPr>
        <p:grpSpPr>
          <a:xfrm>
            <a:off x="1440" y="0"/>
            <a:ext cx="9149040" cy="6851520"/>
            <a:chOff x="1440" y="0"/>
            <a:chExt cx="9149040" cy="6851520"/>
          </a:xfrm>
        </p:grpSpPr>
        <p:sp>
          <p:nvSpPr>
            <p:cNvPr id="72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29" name=""/>
            <p:cNvGrpSpPr/>
            <p:nvPr/>
          </p:nvGrpSpPr>
          <p:grpSpPr>
            <a:xfrm>
              <a:off x="457200" y="0"/>
              <a:ext cx="8093160" cy="6851520"/>
              <a:chOff x="457200" y="0"/>
              <a:chExt cx="8093160" cy="6851520"/>
            </a:xfrm>
          </p:grpSpPr>
          <p:sp>
            <p:nvSpPr>
              <p:cNvPr id="73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4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54" name=""/>
            <p:cNvGrpSpPr/>
            <p:nvPr/>
          </p:nvGrpSpPr>
          <p:grpSpPr>
            <a:xfrm>
              <a:off x="1440" y="622440"/>
              <a:ext cx="9141120" cy="2493720"/>
              <a:chOff x="1440" y="622440"/>
              <a:chExt cx="9141120" cy="2493720"/>
            </a:xfrm>
          </p:grpSpPr>
          <p:sp>
            <p:nvSpPr>
              <p:cNvPr id="75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6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63"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64"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65"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C3D4-6CFF-4F94-81F4-ED1A27D70A5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6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03" name=""/>
          <p:cNvGrpSpPr/>
          <p:nvPr/>
        </p:nvGrpSpPr>
        <p:grpSpPr>
          <a:xfrm>
            <a:off x="0" y="0"/>
            <a:ext cx="9148320" cy="6851520"/>
            <a:chOff x="0" y="0"/>
            <a:chExt cx="9148320" cy="6851520"/>
          </a:xfrm>
        </p:grpSpPr>
        <p:sp>
          <p:nvSpPr>
            <p:cNvPr id="80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07" name=""/>
            <p:cNvGrpSpPr/>
            <p:nvPr/>
          </p:nvGrpSpPr>
          <p:grpSpPr>
            <a:xfrm>
              <a:off x="455400" y="0"/>
              <a:ext cx="8092440" cy="6851520"/>
              <a:chOff x="455400" y="0"/>
              <a:chExt cx="8092440" cy="6851520"/>
            </a:xfrm>
          </p:grpSpPr>
          <p:sp>
            <p:nvSpPr>
              <p:cNvPr id="80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2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32" name=""/>
            <p:cNvGrpSpPr/>
            <p:nvPr/>
          </p:nvGrpSpPr>
          <p:grpSpPr>
            <a:xfrm>
              <a:off x="0" y="622440"/>
              <a:ext cx="9140760" cy="2493720"/>
              <a:chOff x="0" y="622440"/>
              <a:chExt cx="9140760" cy="2493720"/>
            </a:xfrm>
          </p:grpSpPr>
          <p:sp>
            <p:nvSpPr>
              <p:cNvPr id="83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3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4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4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4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4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5372-A879-4B6F-B9F8-B78268A1EA1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0"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81"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C186-FABE-4089-BDC5-E56A3DA968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82" name=""/>
          <p:cNvGrpSpPr/>
          <p:nvPr/>
        </p:nvGrpSpPr>
        <p:grpSpPr>
          <a:xfrm>
            <a:off x="0" y="0"/>
            <a:ext cx="9140760" cy="6850080"/>
            <a:chOff x="0" y="0"/>
            <a:chExt cx="9140760" cy="6850080"/>
          </a:xfrm>
        </p:grpSpPr>
        <p:grpSp>
          <p:nvGrpSpPr>
            <p:cNvPr id="883" name=""/>
            <p:cNvGrpSpPr/>
            <p:nvPr/>
          </p:nvGrpSpPr>
          <p:grpSpPr>
            <a:xfrm>
              <a:off x="2743200" y="3540240"/>
              <a:ext cx="6392880" cy="3309840"/>
              <a:chOff x="2743200" y="3540240"/>
              <a:chExt cx="6392880" cy="3309840"/>
            </a:xfrm>
          </p:grpSpPr>
          <p:sp>
            <p:nvSpPr>
              <p:cNvPr id="88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8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92"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30" name=""/>
          <p:cNvGrpSpPr/>
          <p:nvPr/>
        </p:nvGrpSpPr>
        <p:grpSpPr>
          <a:xfrm>
            <a:off x="0" y="0"/>
            <a:ext cx="9140760" cy="6850080"/>
            <a:chOff x="0" y="0"/>
            <a:chExt cx="9140760" cy="6850080"/>
          </a:xfrm>
        </p:grpSpPr>
        <p:grpSp>
          <p:nvGrpSpPr>
            <p:cNvPr id="931" name=""/>
            <p:cNvGrpSpPr/>
            <p:nvPr/>
          </p:nvGrpSpPr>
          <p:grpSpPr>
            <a:xfrm>
              <a:off x="2743200" y="3540240"/>
              <a:ext cx="6392880" cy="3309840"/>
              <a:chOff x="2743200" y="3540240"/>
              <a:chExt cx="6392880" cy="3309840"/>
            </a:xfrm>
          </p:grpSpPr>
          <p:sp>
            <p:nvSpPr>
              <p:cNvPr id="93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3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3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940"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41"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42"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F5C8-7A48-4B7F-9849-6356D8928D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05264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besity relation to diabetes</a:t>
            </a:r>
            <a:endParaRPr b="0" lang="en-US" sz="5400" spc="-1" strike="noStrike">
              <a:solidFill>
                <a:srgbClr val="ccecff"/>
              </a:solidFill>
              <a:latin typeface="Arial"/>
            </a:endParaRPr>
          </a:p>
        </p:txBody>
      </p:sp>
      <p:pic>
        <p:nvPicPr>
          <p:cNvPr id="980" name="" descr=""/>
          <p:cNvPicPr/>
          <p:nvPr/>
        </p:nvPicPr>
        <p:blipFill>
          <a:blip r:embed="rId1"/>
          <a:stretch/>
        </p:blipFill>
        <p:spPr>
          <a:xfrm>
            <a:off x="3276720" y="3789360"/>
            <a:ext cx="285732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lusion</a:t>
            </a:r>
            <a:endParaRPr b="0" lang="en-US" sz="4400" spc="-1" strike="noStrike">
              <a:solidFill>
                <a:srgbClr val="dfdef6"/>
              </a:solidFill>
              <a:latin typeface="Arial"/>
            </a:endParaRPr>
          </a:p>
        </p:txBody>
      </p:sp>
      <p:sp>
        <p:nvSpPr>
          <p:cNvPr id="9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can see from the data there was a correlation between these two variables. The factors I stated in my hypothesis may be the cause, but my independent variable wasn’t completely independent, because even people that aren’t obese can get diabetes, but the larger portion of people who do are over weight and I think that’s what gives these two variables their corre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IOGRAPHY</a:t>
            </a:r>
            <a:endParaRPr b="0" lang="en-US" sz="4400" spc="-1" strike="noStrike">
              <a:solidFill>
                <a:srgbClr val="ccecff"/>
              </a:solidFill>
              <a:latin typeface="Arial"/>
            </a:endParaRPr>
          </a:p>
        </p:txBody>
      </p:sp>
      <p:sp>
        <p:nvSpPr>
          <p:cNvPr id="10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obese population in 1994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obese population in 2008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increased obesity rates from 1994-2009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diabetes internationally in 2005.</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people with diabetes Canada, 1994.</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468360" y="26028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question: Is there a relationship between the obesity rates and the amount of people with diabe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 there will be a moderate correlation between these two variables, due to the increasing obesity rates  from the ever growing fast food restaurants and the fact that people that are over weight can get type two diabe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539640" y="98100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I choose this question: I decided to use this data for my project because it was readily available and to show the importance of these two things for our popul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ing Bias: Some sampling bias could come from the data being skewed do to changes in population size, not having all the years of data for both variables. but it's clear over the years what pattern emer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direct data</a:t>
            </a:r>
            <a:endParaRPr b="1" lang="en-US" sz="4400" spc="-1" strike="noStrike">
              <a:solidFill>
                <a:srgbClr val="e5e5ff"/>
              </a:solidFill>
              <a:latin typeface="Garamond"/>
            </a:endParaRPr>
          </a:p>
        </p:txBody>
      </p:sp>
      <p:sp>
        <p:nvSpPr>
          <p:cNvPr id="985"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4 3%/ 722,491</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6 3.2%/ 787,924</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8 3.5%/ 865,908</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0 4.1%/ 1,063,698</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3 4.6%/ 1,222,882</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5 4.9%/ 1,325,12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rect data continued</a:t>
            </a:r>
            <a:endParaRPr b="1" lang="en-US" sz="4400" spc="-1" strike="noStrike">
              <a:solidFill>
                <a:srgbClr val="e5e5ff"/>
              </a:solidFill>
              <a:latin typeface="Garamond"/>
            </a:endParaRPr>
          </a:p>
        </p:txBody>
      </p:sp>
      <p:sp>
        <p:nvSpPr>
          <p:cNvPr id="9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4 12.7%/ 2,687,691</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6 11.9%/ </a:t>
            </a:r>
            <a:r>
              <a:rPr b="1" lang="en-US" sz="2000" spc="-1" strike="noStrike" u="sng">
                <a:solidFill>
                  <a:srgbClr val="ffffff"/>
                </a:solidFill>
                <a:uFillTx/>
                <a:latin typeface="Garamond"/>
              </a:rPr>
              <a:t>2,627,678</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8 14.1%/ 3,169,219</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0 14.5%/ 3,353,633</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3 14.9%/ 3,547,995</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5 15.5%/ 3,764,664</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7 16%/ 4,016,735</a:t>
            </a:r>
            <a:endParaRPr b="0" lang="en-US" sz="2000" spc="-1" strike="noStrike">
              <a:solidFill>
                <a:srgbClr val="ffffff"/>
              </a:solidFill>
              <a:latin typeface="Garamond"/>
            </a:endParaRPr>
          </a:p>
        </p:txBody>
      </p:sp>
      <p:sp>
        <p:nvSpPr>
          <p:cNvPr id="988" name=""/>
          <p:cNvSpPr/>
          <p:nvPr/>
        </p:nvSpPr>
        <p:spPr>
          <a:xfrm>
            <a:off x="539640" y="5950080"/>
            <a:ext cx="80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esity rate increase from 1994-2009 33.9%/ 4,805,982</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9" name=""/>
          <p:cNvSpPr/>
          <p:nvPr/>
        </p:nvSpPr>
        <p:spPr>
          <a:xfrm>
            <a:off x="1547640" y="981000"/>
            <a:ext cx="597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chart showing the increase of diabetes in our population from 1994-2005</a:t>
            </a:r>
            <a:endParaRPr b="0" lang="en-US" sz="1800" spc="-1" strike="noStrike">
              <a:solidFill>
                <a:srgbClr val="eaeaea"/>
              </a:solidFill>
              <a:latin typeface="Arial"/>
            </a:endParaRPr>
          </a:p>
        </p:txBody>
      </p:sp>
      <p:graphicFrame>
        <p:nvGraphicFramePr>
          <p:cNvPr id="990" name=""/>
          <p:cNvGraphicFramePr/>
          <p:nvPr/>
        </p:nvGraphicFramePr>
        <p:xfrm>
          <a:off x="395280" y="1916280"/>
          <a:ext cx="8424720" cy="4465440"/>
        </p:xfrm>
        <a:graphic>
          <a:graphicData uri="http://schemas.openxmlformats.org/presentationml/2006/ole">
            <p:oleObj progId="Excel.Sheet.12" r:id="rId1" spid="">
              <p:embed/>
              <p:pic>
                <p:nvPicPr>
                  <p:cNvPr id="991" name="" descr=""/>
                  <p:cNvPicPr/>
                  <p:nvPr/>
                </p:nvPicPr>
                <p:blipFill>
                  <a:blip r:embed="rId2"/>
                  <a:stretch/>
                </p:blipFill>
                <p:spPr>
                  <a:xfrm>
                    <a:off x="395280" y="1916280"/>
                    <a:ext cx="8424720" cy="44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992" name=""/>
          <p:cNvGraphicFramePr/>
          <p:nvPr/>
        </p:nvGraphicFramePr>
        <p:xfrm>
          <a:off x="468360" y="2781360"/>
          <a:ext cx="8229600" cy="3817800"/>
        </p:xfrm>
        <a:graphic>
          <a:graphicData uri="http://schemas.openxmlformats.org/presentationml/2006/ole">
            <p:oleObj progId="Excel.Sheet.12" r:id="rId1" spid="">
              <p:embed/>
              <p:pic>
                <p:nvPicPr>
                  <p:cNvPr id="993" name="" descr=""/>
                  <p:cNvPicPr/>
                  <p:nvPr/>
                </p:nvPicPr>
                <p:blipFill>
                  <a:blip r:embed="rId2"/>
                  <a:stretch/>
                </p:blipFill>
                <p:spPr>
                  <a:xfrm>
                    <a:off x="468360" y="2781360"/>
                    <a:ext cx="8229600" cy="3817800"/>
                  </a:xfrm>
                  <a:prstGeom prst="rect">
                    <a:avLst/>
                  </a:prstGeom>
                  <a:ln w="0">
                    <a:noFill/>
                  </a:ln>
                </p:spPr>
              </p:pic>
            </p:oleObj>
          </a:graphicData>
        </a:graphic>
      </p:graphicFrame>
      <p:sp>
        <p:nvSpPr>
          <p:cNvPr id="994" name=""/>
          <p:cNvSpPr/>
          <p:nvPr/>
        </p:nvSpPr>
        <p:spPr>
          <a:xfrm>
            <a:off x="1476360" y="620640"/>
            <a:ext cx="66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chart showing the increase of obesity in our population from 1994-200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995" name=""/>
          <p:cNvGraphicFramePr/>
          <p:nvPr/>
        </p:nvGraphicFramePr>
        <p:xfrm>
          <a:off x="468360" y="333360"/>
          <a:ext cx="8229600" cy="3817800"/>
        </p:xfrm>
        <a:graphic>
          <a:graphicData uri="http://schemas.openxmlformats.org/presentationml/2006/ole">
            <p:oleObj progId="Excel.Sheet.12" r:id="rId1" spid="">
              <p:embed/>
              <p:pic>
                <p:nvPicPr>
                  <p:cNvPr id="996" name="" descr=""/>
                  <p:cNvPicPr/>
                  <p:nvPr/>
                </p:nvPicPr>
                <p:blipFill>
                  <a:blip r:embed="rId2"/>
                  <a:stretch/>
                </p:blipFill>
                <p:spPr>
                  <a:xfrm>
                    <a:off x="468360" y="333360"/>
                    <a:ext cx="8229600" cy="3817800"/>
                  </a:xfrm>
                  <a:prstGeom prst="rect">
                    <a:avLst/>
                  </a:prstGeom>
                  <a:ln w="0">
                    <a:noFill/>
                  </a:ln>
                </p:spPr>
              </p:pic>
            </p:oleObj>
          </a:graphicData>
        </a:graphic>
      </p:graphicFrame>
      <p:sp>
        <p:nvSpPr>
          <p:cNvPr id="997" name=""/>
          <p:cNvSpPr/>
          <p:nvPr/>
        </p:nvSpPr>
        <p:spPr>
          <a:xfrm>
            <a:off x="755640" y="5013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chart shows the last two variables together, while the obesity rates are much higher they still seem to be rising at a close rate, that is why the correlation would almost fit ether set of dat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57:34Z</dcterms:created>
  <dc:creator>Cody Eckart</dc:creator>
  <dc:description/>
  <dc:language>en-US</dc:language>
  <cp:lastModifiedBy>Cody Eckart</cp:lastModifiedBy>
  <dcterms:modified xsi:type="dcterms:W3CDTF">2011-01-09T18:37:57Z</dcterms:modified>
  <cp:revision>2</cp:revision>
  <dc:subject/>
  <dc:title>Obesity relation to diabetes</dc:title>
</cp:coreProperties>
</file>